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0E38-3D14-47CC-AA72-7AFCD41F5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2EC2-6B9E-4D76-9FEC-9B4754803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51C1-2349-4491-BCFB-CA5BD6F81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DFE-E75F-4748-9B12-B6874332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6E4F-560F-4879-A5C7-67E6C09E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D1E3-79AD-441D-B09C-10060228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5DC3-EE9B-4DC9-A7BA-793A3025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384-4562-4DD2-86B1-64A94898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163-EB1C-4CD8-8D49-13256D07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BD1-C8E4-4E43-A5C1-C44F8D3C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2D45-F5E2-4928-9D38-37E4C90F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352-946B-4146-89A1-AF1351F0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525-998E-459C-B04C-21642772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9116-B18C-401A-B701-4793CC5C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BC89-41A3-4333-A171-5E9078DF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5654-79E6-457C-B23E-FD4E01F9A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chc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, Holly Ham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an Ro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h Le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ory R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determine who were witches?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ing someone up and throwing them into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y sa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n’t a witch, but they were de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y floated? (like a c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a wit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time, the accused person would struggle and flail around in the water so they’d break free and swim to the top of the water any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determine who were witches?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y had a “witchmar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like a mole, wart, or discoloration of the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witchmark” was considered to be where the devil touched th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one would poke them with a needle-like object on their “witchmark” and if they felt no pain then they were  said to be a 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y bleed then they were inno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they determine who were witches?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was of a low social status then people sometimes thought that they could be a 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, witches were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was a studier of medicine, then people thought that they might be a 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ishing 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ditional punishment for convicted witches was being burned at the stake. This started in Europe in the witch 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was known for hanging their witches as well as burn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 England forbade it, Scotland sanctioned the torturing of witches in order to receive conf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ishing Witche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ing methods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walking or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 depr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ing, the act of putting a board on the body and putting weight on it, was also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Witch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rred in Chelmsford, Essex England during 15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me about as a result of pressure from the chu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irst trial to be written up in a pamphl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Frances used a cat to inflict harm on Agnes Waterhouse and her daughter Jo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was found guilty and put in jail while Agnes was h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witchh.gif"/>
          <p:cNvPicPr/>
          <p:nvPr/>
        </p:nvPicPr>
        <p:blipFill>
          <a:blip r:embed="rId1"/>
          <a:stretch/>
        </p:blipFill>
        <p:spPr>
          <a:xfrm>
            <a:off x="5562720" y="1295280"/>
            <a:ext cx="29718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em Witch T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red in Salem, Massachuse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2-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were accused of witchcraft and 200 were put in j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uba, Sarah Good, and Sarah Osbourne were accused of witchcraft and thrown in jail due to Tituba’s conf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Owner\AppData\Local\Microsoft\Windows\Temporary Internet Files\Content.IE5\FTPW0WSL\MC900436216[1].png"/>
          <p:cNvPicPr/>
          <p:nvPr/>
        </p:nvPicPr>
        <p:blipFill>
          <a:blip r:embed="rId1"/>
          <a:stretch/>
        </p:blipFill>
        <p:spPr>
          <a:xfrm>
            <a:off x="380880" y="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Owner\AppData\Local\Microsoft\Windows\Temporary Internet Files\Content.IE5\XOZAUS8J\MC900027392[1].wmf"/>
          <p:cNvPicPr/>
          <p:nvPr/>
        </p:nvPicPr>
        <p:blipFill>
          <a:blip r:embed="rId2"/>
          <a:stretch/>
        </p:blipFill>
        <p:spPr>
          <a:xfrm>
            <a:off x="6858000" y="914400"/>
            <a:ext cx="1908000" cy="1492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witch.jpg"/>
          <p:cNvPicPr/>
          <p:nvPr/>
        </p:nvPicPr>
        <p:blipFill>
          <a:blip r:embed="rId3"/>
          <a:stretch/>
        </p:blipFill>
        <p:spPr>
          <a:xfrm>
            <a:off x="2819520" y="3962520"/>
            <a:ext cx="320040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witchcraf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ral agreement hasn’t been reached on what witchcraft was, or migh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bout 3 definitions that can be used to understand witch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chcraft, a form of sorcery, or the magical manipulation of nature for self-aggrandizement, or for the benefit or harm of a client. This manipulation often involves the use of spirit-helpers, or familia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nglanders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colonists defined witchcraft as “the use of supernatural power, usually but not always for har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witches were considered hea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ir powers for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nglanders defini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d some humans were darkly unnatural and possessed supernatural 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sed witches were said to abuse their powers by wreaking havoc on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tive for why witchcraft was used was how the term wa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itans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ood witchcraft as a relationship between a human being and the devi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ed for evidence of this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elling Puritans of the pain they felt when warding of Satan’s attempt to lure them they gave useful evidence for their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ans believe New England witch-craft as a way to express social and cultural anxieties among accusers rather than the harm the accused was acc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der, religion, and psychology lent bias to deciphering the meanings of witch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determine who were witc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saw them performing witch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dmitted 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:\Users\HRomero1993\AppData\Local\Microsoft\Windows\Temporary Internet Files\Content.IE5\DU3GFPBJ\MC900436109[1].wmf"/>
          <p:cNvPicPr/>
          <p:nvPr/>
        </p:nvPicPr>
        <p:blipFill>
          <a:blip r:embed="rId1"/>
          <a:stretch/>
        </p:blipFill>
        <p:spPr>
          <a:xfrm>
            <a:off x="2057400" y="2819520"/>
            <a:ext cx="464832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6524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w did they determine who were witches (cont’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74800" y="1371240"/>
            <a:ext cx="51116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iars” are given to them by the d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imals that wreaked havoc on the surrounding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sively Brit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familiars"/>
          <p:cNvPicPr/>
          <p:nvPr/>
        </p:nvPicPr>
        <p:blipFill>
          <a:blip r:embed="rId1"/>
          <a:stretch/>
        </p:blipFill>
        <p:spPr>
          <a:xfrm>
            <a:off x="457200" y="1371600"/>
            <a:ext cx="3017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3:55:24Z</dcterms:created>
  <dc:creator>aps13.romeiva</dc:creator>
  <dc:description/>
  <dc:language>en-US</dc:language>
  <cp:lastModifiedBy>aps13.romeiva</cp:lastModifiedBy>
  <dcterms:modified xsi:type="dcterms:W3CDTF">2011-10-24T14:39:38Z</dcterms:modified>
  <cp:revision>28</cp:revision>
  <dc:subject/>
  <dc:title>Witchcraft</dc:title>
</cp:coreProperties>
</file>